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FFD2-295C-4503-916D-621878EDBB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6E47-E57A-414C-A3E4-0F81909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A705-59AA-4352-97FE-5AC269DF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2460A-2AF8-4A0D-A993-4B19CFC983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5105-9623-4135-9334-3917F49C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654F0-BD55-4864-93A9-B60D39C3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4C71-C717-420F-8699-DE18B7A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3BBAB-C304-482B-98EE-5368031A4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7304-6A0A-4D2B-9623-0D8843DB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6A85-817D-4545-81F8-947735BB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12FC-89EE-4D4F-909C-9AB43AA0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E120-F6D7-46FF-ADCD-06FD8803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47C-144D-4ABD-AE7A-5D6E923B597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儿童少年期精神障碍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50920" y="1773360"/>
            <a:ext cx="50594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长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家长对患儿疾病的认识情况及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专人照顾患儿，家庭关系是否融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经济条件如何，接受特殊教育有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无可利用的社会资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水平低下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智能发育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智力水平低、语言发育障碍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父母角色冲突 与患儿需要照顾、不能接受患儿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害的危险 与认知功能障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1699920"/>
            <a:ext cx="8299440" cy="45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理饮食、养成良好的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交往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99640" y="1628640"/>
            <a:ext cx="6859800" cy="47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劳动和职业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属认识到家庭教育的重要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帮助家长正确认识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导家长积极参与教育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儿童孤独症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孤独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utis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一种起病于婴幼儿期，以社会交往障碍、语言发育障碍，兴趣狭窄、行为方式刻板为主要特征的广泛性发育障碍，多伴有精神发育迟滞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1"/>
          <p:cNvSpPr/>
          <p:nvPr/>
        </p:nvSpPr>
        <p:spPr>
          <a:xfrm>
            <a:off x="611280" y="13683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矩形 5"/>
          <p:cNvSpPr/>
          <p:nvPr/>
        </p:nvSpPr>
        <p:spPr>
          <a:xfrm>
            <a:off x="1571760" y="1571760"/>
            <a:ext cx="5715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社会交往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语言交流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兴趣范围狭窄和行为方式刻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智能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精神神经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孤独症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常用的量表有：孤独症行为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utism behavior checkl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儿童期孤独症评定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hildhood autism rating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、克氏孤独症行为量表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lancy autism behavior sca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AB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躯体检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否患有躯体疾病、有无皮肤完整性受损、评估身体发育指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检查 评估患儿在感知觉、思维、情感和动作与行为等多方面的发育有无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包括颅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R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脑电图等特殊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2400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育训练 教育训练是治疗儿童孤独症最有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 目前尚无治疗孤独症的特效药物，如果患儿伴随的精神、神经症状明显，影响到日常生活，可使用药物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24000" y="285480"/>
            <a:ext cx="70200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1260360" y="1915920"/>
            <a:ext cx="9936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一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精神发育迟滞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二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孤独症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第三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患儿的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详细了解母孕期有无病毒感染、产程和生产方式，患儿有无宫内窒息和脑损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否依恋父母，有无回避与他人的目光接触，是否与小朋友交往、玩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语言发育如何，是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还无法说出有意义的词、句，不会使用代词，是否缺乏肢体语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趣范围和行为表现如何，是否对某些非玩具性的物体感兴趣，是否保持固有的日常生活行为，有无重复刻板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99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智力发育如何，生活能否自理；有无学习或运动技能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4920" y="2133720"/>
            <a:ext cx="844380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族史 仔细了解家族中是否有患类似疾病的患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有无患过其他躯体疾病，有无过敏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状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了解家庭成员特别是父母对疾病的认识程度及对患儿的态度，主要照顾者的情况如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庭的经济状况如何，接受特殊教育训练有无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无家庭无法实施治疗方案的可能，是否有可利用的社会资源等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社交功能缺陷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沟通障碍 与语言发育障碍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理能力缺陷 与智力低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自理缺陷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刻板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071720" y="1356840"/>
            <a:ext cx="7843680" cy="48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证正常的生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安全的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交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矫正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技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注意缺陷与多动障碍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缺陷与多动障碍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tention deficit and hyperactive disord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起病于儿童和少年期，以明显的注意力不集中和注意持续时间短暂、活动过度与冲动为主要临床表现的精神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缺陷 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DH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主要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过多和冲动学习困难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部分患儿可出现神经系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关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29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为评定常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nner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（父母问卷、教师用评定量表和简明症状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ut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问卷（父母和教师问卷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enbach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儿童行为量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642680"/>
            <a:ext cx="8558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 主要采用行为治疗和认知行为治疗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行为管理和教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教师和家长需要针对患儿的特点进行教育，避免歧视、体罚或其他粗暴的教育方法，以免加重患儿的精神创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兴奋剂 是主要治疗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环类抗抑郁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甲肾上腺素能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史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疾病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1643040"/>
            <a:ext cx="855828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长发育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家庭环境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无患其他躯体疾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理社会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评估家长对患儿疾病的认识及态度如何，有无因疾病引起家庭矛盾和危机，家庭结构稳定性如何，父母教养方式如何，学校老师对待患儿的态度如何，是否能够采取一定的干预措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856880"/>
            <a:ext cx="85042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儿童少年期精神障碍具有的特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描述精神发育迟滞、孤独症、注意缺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多动障碍患者的主要临床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生能够说出儿童少年期精神障碍的相关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暴力行为的危险：针对自己或他人 与情绪不稳、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与活动过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交往障碍 与注意缺陷、多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亲子角色冲突 与行为冲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提供安静的住院环境，尽量避免可引起分散注意力的刺激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安全护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儿行为冲动不顾后果、喜欢冒险，应注意观察病情，严防病情变化发生意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心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首先要理解和尊重患儿，不因为患儿存在多动、冲动等症状而过分约束或斥责患儿，与患儿建立良好的护患关系，并争取家长的合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密切观察服药情况，以及服药后的效果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8000" y="2133720"/>
            <a:ext cx="81550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注意缺陷与多动症的安全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比较精神发育迟滞与儿童孤独症临床特征的异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简述不同等级精神发育迟滞患儿的教育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50920" y="1213920"/>
            <a:ext cx="8321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与儿童少年期精神障碍发病有关的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解释儿童少年期精神障碍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识别不同等级的精神发育迟滞的智商水平和心理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够归纳出精神发育迟滞、孤独症及注意缺陷与多动障碍患者临床特征的异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神发育迟滞患儿的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ental retard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是一组起病于中枢神经系统发育成熟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以前，以智力发育低下和社会适应困难为临床特征的精神障碍，预后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18920" y="1125000"/>
            <a:ext cx="419580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临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轻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极重度精神发育迟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相关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19280" y="1413000"/>
            <a:ext cx="6283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智商和生长发育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社会适应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常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自理能力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精神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他病因查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级预防措施：做好婚前检查、孕期保健和计划生育，减少遗传性疾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级预防措施：运用儿童发育心理学知识与技术，对婴幼儿定期进行检查，尤其对早产儿、低体重儿等高危儿进行定期访视，做到早期发现、早期干预；对社会心理因素为主要原因的精神发育迟滞儿童，及时进行强化教育训练；积极防治各类精神发育迟滞儿童的情绪与行为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级预防措施：减少残疾，提高补偿能力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预防与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精神发育迟滞的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教育训练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治疗为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数需要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10T02:39:04Z</dcterms:modified>
  <cp:revision>9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